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5A3-CD93-47C2-B0BB-7A9DD604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E22-7FFE-4AC7-9BAE-036C5AB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171-2D60-483A-BF9A-6B9FB32F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C27-EEAF-43FD-868A-82F6059B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B82-1459-46EF-BE25-7EFC284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362-48F0-4453-83DF-CD0FED2C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DB9-4E40-4C08-81F3-18A5622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ED1-CC29-4144-AA6E-3594D313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FC-61C2-4923-B25E-AB524A0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E37-A8BF-49AB-AF13-671348B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930-96CB-4733-B3C9-0910912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BCB-6F5E-46C8-955D-3B13BA3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D3F-B5A0-4317-9060-51DB3EF9BE6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0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746280"/>
            <a:ext cx="289548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جازت من فوقي تيارات وأغرقتني الضيقا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90720" y="7632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والعشب التفَّ برأسي والماء عبر إلى نف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457200"/>
            <a:ext cx="358128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صلى يونان من جوف الحوت، أصدرتَ أمراً ألا يمو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2286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cc00"/>
                </a:solidFill>
                <a:latin typeface="Arial"/>
              </a:rPr>
              <a:t>من جوف الهاوية صرخ، وبالمراحم سمعت الصو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2:07:40Z</dcterms:created>
  <dc:creator>user</dc:creator>
  <dc:description/>
  <dc:language>en-US</dc:language>
  <cp:lastModifiedBy>user</cp:lastModifiedBy>
  <dcterms:modified xsi:type="dcterms:W3CDTF">2006-09-01T13:39:13Z</dcterms:modified>
  <cp:revision>15</cp:revision>
  <dc:subject/>
  <dc:title>Slide 1</dc:title>
</cp:coreProperties>
</file>